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A18-4EC7-4EAF-8A1E-6169495C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FBC-E724-424A-AE0B-3FB6B83D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81E-38F7-462D-B9A8-65FE10F2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3D6-E025-4D82-BCD4-863F7203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749-8B42-449C-9A63-80615397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C56-0080-4934-B45C-111C64A8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9A4-F092-4996-91E0-1AD15396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008-067C-4105-AD64-F6F7DA23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1B8-8414-4D64-83C0-61A5F0F9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099-B043-4B38-8CB2-52C337F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CE7-AF75-4D25-BED0-70B1950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0C4-CA62-4B15-BCAB-93DB12B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D1ED-134C-4640-AFCF-D0A214006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oring in the Community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ntor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ence D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orence Dix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07280" cy="604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-72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Amou is a young woman from Sudanese 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202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he is 22 and lives by herself, she has never lived in a city, but has caught on quickly working out public transport she wants to learn how the system works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16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he wants to keep improving her English and doesn’t know what work she wants to do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2161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he feels isolated and isn’t actively involved with the Sudanese community though she would like to 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96000" y="115920"/>
            <a:ext cx="1800360" cy="166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67640" y="108360"/>
            <a:ext cx="130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e has arrived on her own and her family is still in refugee camps in Ken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050920" y="4076640"/>
            <a:ext cx="2032200" cy="191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156360" y="429264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orence Dix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1882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Mary has just moved to a new suburb and was a teacher for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12500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he is lonely and doesn’t know anyone in the local are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565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e has health needs and wants to stay in touch with her children who live in another state but doesn’t know how to use a comput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9736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She is feeling depressed about her life and feels like there is no purpose in her life anymo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508280"/>
            <a:ext cx="33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veryone around her is young participating in life and she feels invi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44800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51280" y="1125360"/>
            <a:ext cx="2160720" cy="136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72000" y="2637000"/>
            <a:ext cx="3600360" cy="172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627280" y="4581360"/>
            <a:ext cx="2540160" cy="168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156360" y="5445000"/>
            <a:ext cx="2286000" cy="11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orence Dix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orence Dix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1:37:07Z</dcterms:created>
  <dc:creator>DELL</dc:creator>
  <dc:description/>
  <dc:language>en-US</dc:language>
  <cp:lastModifiedBy>DELL</cp:lastModifiedBy>
  <dcterms:modified xsi:type="dcterms:W3CDTF">2010-10-05T03:33:06Z</dcterms:modified>
  <cp:revision>3</cp:revision>
  <dc:subject/>
  <dc:title>Mentoring in the Community Mentor Scenarios</dc:title>
</cp:coreProperties>
</file>